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3A333-715C-4684-A9CD-C6E5A19B4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47B38-AF23-4D90-A55C-C95361B3B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329BD-2997-43E5-8534-2AB2ED24B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8B0F5-8597-4827-9DF6-93167B66E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5D036-9B40-45AE-8679-9D7BFA3B8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C7C87-BE3E-4B84-B6F9-D72BC56AC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4AADC-2AD1-4FFA-A55D-0034FE8CF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2CA48-5285-4952-8795-BB285B3DE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8F737-1B68-49E9-8EAD-305869D4A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EF4A4-3D5A-4188-A97E-5F7C11038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CF86A-CF73-4A98-ABC8-F13460D2B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B1D95-E709-4856-90E9-E60FFA4C78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0229A-54CA-4872-A4BA-1A2D97DA13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imgres?imgurl=http://www.quotesbuddy.com/uploads/2009/06/basketball-quotes-graphics-7.jpg&amp;imgrefurl=http://www.quotesbuddy.com/basketball-quotes/playing-against-the-game/&amp;usg=__s-ZLHZghplVKwvgF8thD7gXj8ck=&amp;h=960&amp;w=1280&amp;sz=180&amp;hl=en&amp;start=10&amp;zoom=1&amp;um=1&amp;itbs=1&amp;tbnid=7xR5OHUVv_JdyM:&amp;tbnh=113&amp;tbnw=150&amp;prev=/images%3Fq%3Dbasketball%2Bquotes%26um%3D1%26hl%3Den%26safe%3Dactive%26sa%3DN%26rlz%3D1T4SUNA_enUS289%26tbs%3Disch:1&amp;ei=kiVlTaKTK8jcgQeopYTTB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oogle.com/imgres?imgurl=http://www.worldsportchicago.org/Portals/0/Sports/Basketball/FreeThrowGirl.jpg&amp;imgrefurl=http://www.worldsportchicago.org/sports/all-sports/basketball.aspx&amp;usg=__QaDbBtDDfOKFsgWNcMqjLEK7gU4=&amp;h=2560&amp;w=1700&amp;sz=275&amp;hl=en&amp;start=9&amp;zoom=1&amp;um=1&amp;itbs=1&amp;tbnid=jW3xz30E27rbHM:&amp;tbnh=150&amp;tbnw=100&amp;prev=/images%3Fq%3Dbasketball%2Bfree%2Bthrows%26um%3D1%26hl%3Den%26safe%3Dactive%26sa%3DN%26rls%3Dcom.microsoft:en-us%26tbs%3Disch:1&amp;ei=OPVbTf7nE8L6lwfS06DmCQ"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google.com/imgres?imgurl=http://www.cheapjordanshoescom.com/images/Air-Jordan-3.5/Air-Jordan-3.5-Orange-Black.jpg&amp;imgrefurl=http://www.cheapjordanshoescom.com/air-jordan-35-orange-black-p-165.html&amp;usg=__Vbl4uoQgSczDxA2iLw8y2v_MNls=&amp;h=375&amp;w=500&amp;sz=64&amp;hl=en&amp;start=11&amp;zoom=1&amp;um=1&amp;itbs=1&amp;tbnid=Xbp-seQuZd2j-M:&amp;tbnh=98&amp;tbnw=130&amp;prev=/images%3Fq%3Djordan%2Bshoes%2Borange%26um%3D1%26hl%3Den%26safe%3Dactive%26sa%3DN%26rlz%3D1T4SUNA_enUS289%26tbs%3Disch:1&amp;ei=gyZlTYPeLcjngQfykJnGBg"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google.com/imgres?imgurl=http://www.besportier.com/archives/air-jordan-23-basketball.jpg&amp;imgrefurl=http://www.besportier.com/archives/easyglider-the-new-way-to-ride-1.html&amp;usg=__WH373a_KoONFPaSi5GCEhfTQj4s=&amp;h=315&amp;w=538&amp;sz=22&amp;hl=en&amp;start=2&amp;zoom=1&amp;um=1&amp;itbs=1&amp;tbnid=PpX2CDpJCl35iM:&amp;tbnh=77&amp;tbnw=132&amp;prev=/images%3Fq%3Dbasketball%26um%3D1%26hl%3Den%26safe%3Dactive%26rls%3Dcom.microsoft:en-us%26tbs%3Disch:1&amp;ei=YvhbTZmmOoS8lQfj6f3tCQ" TargetMode="External"/><Relationship Id="rId2" Type="http://schemas.openxmlformats.org/officeDocument/2006/relationships/image" Target="../media/image5.jpeg"/><Relationship Id="rId3" Type="http://schemas.openxmlformats.org/officeDocument/2006/relationships/hyperlink" Target="http://www.google.com/imgres?imgurl=http://www.overlimitz.com/up_pimg/9/2008-4-16-14-31-943369.jpg&amp;imgrefurl=http://www.overlimitz.com/catalogs/60/jordans-basketball-shoes-boys-www-jordanshoes-ocm-cheap-jordan-vii-864555.html&amp;usg=__53bD_RrcrYhYMjgTFWfjYVj2qcw=&amp;h=400&amp;w=400&amp;sz=21&amp;hl=en&amp;start=30&amp;zoom=1&amp;um=1&amp;itbs=1&amp;tbnid=b4o1MS8W3fWpWM:&amp;tbnh=124&amp;tbnw=124&amp;prev=/images%3Fq%3Djordan%2Bbasketball%2Bshoes%26start%3D20%26um%3D1%26hl%3Den%26safe%3Dactive%26sa%3DN%26rls%3Dcom.microsoft:en-us%26ndsp%3D20%26tbs%3Disch:1&amp;ei=YflbTaW1GsH_lgei7bHlCQ" TargetMode="External"/><Relationship Id="rId4" Type="http://schemas.openxmlformats.org/officeDocument/2006/relationships/image" Target="../media/image6.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ys and Girls Free Throw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Brityn Flickinger</a:t>
            </a:r>
            <a:endParaRPr b="0" lang="en-US" sz="3200" spc="-1" strike="noStrike">
              <a:solidFill>
                <a:srgbClr val="000000"/>
              </a:solidFill>
              <a:latin typeface="Arial"/>
            </a:endParaRPr>
          </a:p>
        </p:txBody>
      </p:sp>
      <p:pic>
        <p:nvPicPr>
          <p:cNvPr id="43" name="" descr="">
            <a:hlinkClick r:id="rId1"/>
          </p:cNvPr>
          <p:cNvPicPr/>
          <p:nvPr/>
        </p:nvPicPr>
        <p:blipFill>
          <a:blip r:embed="rId2"/>
          <a:stretch/>
        </p:blipFill>
        <p:spPr>
          <a:xfrm>
            <a:off x="0" y="5380200"/>
            <a:ext cx="3352680" cy="147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Conclusio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In  conclusion my hypothesis is wrong. The girls made more shots than the gu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Applicatio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uld be used for picking teams in gy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they NBA as wel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4191120" y="32004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Further Research</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Without a doubt shooting/ free throws is the most important part of the game. If you miss your free throw there are people around on your team and other team that will try to get the rebound. You have ten sec to shoot a free throw. When you are shooting a free throw you have nobody around to block or mess up the shot. There are two people on your team that are going to rebound and three from the other team. The other players stand back behind the shooter. When you are shooting free throws, you need to have a routine and be confident. A common error is you feel really tens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Cause Of Error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been behind the 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t more warm up sho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my student play basketball and some do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Time Spent</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16 hours</a:t>
            </a:r>
            <a:endParaRPr b="0" lang="en-US" sz="3200" spc="-1" strike="noStrike">
              <a:solidFill>
                <a:srgbClr val="000000"/>
              </a:solidFill>
              <a:latin typeface="Arial"/>
            </a:endParaRPr>
          </a:p>
        </p:txBody>
      </p:sp>
      <p:pic>
        <p:nvPicPr>
          <p:cNvPr id="77" name="" descr=""/>
          <p:cNvPicPr/>
          <p:nvPr/>
        </p:nvPicPr>
        <p:blipFill>
          <a:blip r:embed="rId1"/>
          <a:stretch/>
        </p:blipFill>
        <p:spPr>
          <a:xfrm>
            <a:off x="3809880" y="2895480"/>
            <a:ext cx="4648320" cy="3305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 </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ant to say thank you to Mrs. Riffel for letting me test. Also I want to say thank you to Ms. Ball for letting me use her basketballs and thank you to my lovely testers!!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Cited</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ketball Free Throw Rules." </a:t>
            </a:r>
            <a:r>
              <a:rPr b="0" i="1" lang="en-US" sz="2400" spc="-1" strike="noStrike">
                <a:solidFill>
                  <a:srgbClr val="000000"/>
                </a:solidFill>
                <a:latin typeface="Arial"/>
              </a:rPr>
              <a:t>http://www.livestrong.com/article/102074-basketball-throw-rules/</a:t>
            </a:r>
            <a:r>
              <a:rPr b="0" lang="en-US" sz="2400" spc="-1" strike="noStrike">
                <a:solidFill>
                  <a:srgbClr val="000000"/>
                </a:solidFill>
                <a:latin typeface="Arial"/>
              </a:rPr>
              <a:t>. 23 Feb. 2011. Web. 23 Jan. 2011</a:t>
            </a:r>
            <a:r>
              <a:rPr b="1" lang="en-US" sz="2400" spc="-1" strike="noStrike">
                <a:solidFill>
                  <a:srgbClr val="000000"/>
                </a:solidFill>
                <a:latin typeface="Arial"/>
              </a:rPr>
              <a:t> </a:t>
            </a: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Throw Finish." </a:t>
            </a:r>
            <a:r>
              <a:rPr b="0" i="1" lang="en-US" sz="2400" spc="-1" strike="noStrike">
                <a:solidFill>
                  <a:srgbClr val="000000"/>
                </a:solidFill>
                <a:latin typeface="Arial"/>
              </a:rPr>
              <a:t>http://www.somdnews.com/stories/02112011/entetop162011_32331.shtml</a:t>
            </a:r>
            <a:r>
              <a:rPr b="0" lang="en-US" sz="2400" spc="-1" strike="noStrike">
                <a:solidFill>
                  <a:srgbClr val="000000"/>
                </a:solidFill>
                <a:latin typeface="Arial"/>
              </a:rPr>
              <a:t>. 23 Feb. 2011. Web. 23 Jan. 2011</a:t>
            </a:r>
            <a:r>
              <a:rPr b="0" lang="en-US" sz="3200" spc="-1" strike="noStrike">
                <a:solidFill>
                  <a:srgbClr val="000000"/>
                </a:solidFill>
                <a:latin typeface="Arial"/>
              </a:rPr>
              <a:t> </a:t>
            </a:r>
            <a:endParaRPr b="0" lang="en-US" sz="3200" spc="-1" strike="noStrike">
              <a:solidFill>
                <a:srgbClr val="0000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ketball Free Throw Shooting." </a:t>
            </a:r>
            <a:r>
              <a:rPr b="0" i="1" lang="en-US" sz="2400" spc="-1" strike="noStrike">
                <a:solidFill>
                  <a:srgbClr val="000000"/>
                </a:solidFill>
                <a:latin typeface="Arial"/>
              </a:rPr>
              <a:t>http://EzineArticles.com/?expert=Hal_Wissel</a:t>
            </a:r>
            <a:r>
              <a:rPr b="0" lang="en-US" sz="2400" spc="-1" strike="noStrike">
                <a:solidFill>
                  <a:srgbClr val="000000"/>
                </a:solidFill>
                <a:latin typeface="Arial"/>
              </a:rPr>
              <a:t>. 23 Feb. 2011. Web. 23 Jan. 2011.</a:t>
            </a: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Introducti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Free throws are used when you foul. Who can make more free throws? I am a basketball player and I did this because I wanted to find out who made more.</a:t>
            </a:r>
            <a:endParaRPr b="0" lang="en-US" sz="3200" spc="-1" strike="noStrike">
              <a:solidFill>
                <a:srgbClr val="000000"/>
              </a:solidFill>
              <a:latin typeface="Arial"/>
            </a:endParaRPr>
          </a:p>
        </p:txBody>
      </p:sp>
      <p:pic>
        <p:nvPicPr>
          <p:cNvPr id="46" name="" descr=""/>
          <p:cNvPicPr/>
          <p:nvPr/>
        </p:nvPicPr>
        <p:blipFill>
          <a:blip r:embed="rId1"/>
          <a:stretch/>
        </p:blipFill>
        <p:spPr>
          <a:xfrm>
            <a:off x="5943600" y="36576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 testing who can make more free throws boys or girls. Each person gets three warm up shots and then five normal sho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Back ground</a:t>
            </a:r>
            <a:r>
              <a:rPr b="0" lang="en-US" sz="4400" spc="-1" strike="noStrike">
                <a:solidFill>
                  <a:srgbClr val="000000"/>
                </a:solidFill>
                <a:latin typeface="Arial"/>
              </a:rPr>
              <a:t> </a:t>
            </a:r>
            <a:r>
              <a:rPr b="0" lang="en-US" sz="4400" spc="-1" strike="noStrike">
                <a:solidFill>
                  <a:srgbClr val="ff6600"/>
                </a:solidFill>
                <a:latin typeface="Arial"/>
              </a:rPr>
              <a:t>information</a:t>
            </a:r>
            <a:endParaRPr b="0" lang="en-US" sz="4400" spc="-1" strike="noStrike">
              <a:solidFill>
                <a:srgbClr val="000000"/>
              </a:solidFill>
              <a:latin typeface="Arial"/>
            </a:endParaRPr>
          </a:p>
        </p:txBody>
      </p:sp>
      <p:sp>
        <p:nvSpPr>
          <p:cNvPr id="50" name="PlaceHolder 2"/>
          <p:cNvSpPr>
            <a:spLocks noGrp="1"/>
          </p:cNvSpPr>
          <p:nvPr>
            <p:ph/>
          </p:nvPr>
        </p:nvSpPr>
        <p:spPr>
          <a:xfrm>
            <a:off x="456840" y="1600200"/>
            <a:ext cx="8458200" cy="457200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You shoot free throws when you get fouled.</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When you shoot free throws you shoot two at a time.</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It shows that guys make more than girls.</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www.wiki.co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a:hlinkClick r:id="rId1"/>
          </p:cNvPr>
          <p:cNvPicPr/>
          <p:nvPr/>
        </p:nvPicPr>
        <p:blipFill>
          <a:blip r:embed="rId2"/>
          <a:stretch/>
        </p:blipFill>
        <p:spPr>
          <a:xfrm>
            <a:off x="7264440" y="4038480"/>
            <a:ext cx="1879560" cy="2819520"/>
          </a:xfrm>
          <a:prstGeom prst="rect">
            <a:avLst/>
          </a:prstGeom>
          <a:ln w="0">
            <a:noFill/>
          </a:ln>
        </p:spPr>
      </p:pic>
      <p:sp>
        <p:nvSpPr>
          <p:cNvPr id="52" name=""/>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predict guys will make more free throws than girls. I think that because boys are stronger and can hit the hoo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Material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Ball</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Five boys</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Five girls</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Clip board</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Gy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a:hlinkClick r:id="rId1"/>
          </p:cNvPr>
          <p:cNvPicPr/>
          <p:nvPr/>
        </p:nvPicPr>
        <p:blipFill>
          <a:blip r:embed="rId2"/>
          <a:stretch/>
        </p:blipFill>
        <p:spPr>
          <a:xfrm>
            <a:off x="5181480" y="3886200"/>
            <a:ext cx="3372120" cy="254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59"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 all materials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a student (male or femal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warm up sho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normal sho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dat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steps 1-5 till all students male and female have shot</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Variabl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Independent – the number of shots they get</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Dependent- the number of free throws made</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Controlled- Boys and gir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yli- 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ckyn- 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ltyn- 1</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i- 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lie- 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se- 4</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yde-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ne-1</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2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4" name="" descr="">
            <a:hlinkClick r:id="rId1"/>
          </p:cNvPr>
          <p:cNvPicPr/>
          <p:nvPr/>
        </p:nvPicPr>
        <p:blipFill>
          <a:blip r:embed="rId2"/>
          <a:stretch/>
        </p:blipFill>
        <p:spPr>
          <a:xfrm>
            <a:off x="0" y="0"/>
            <a:ext cx="2171880" cy="1447920"/>
          </a:xfrm>
          <a:prstGeom prst="rect">
            <a:avLst/>
          </a:prstGeom>
          <a:ln w="0">
            <a:noFill/>
          </a:ln>
        </p:spPr>
      </p:pic>
      <p:pic>
        <p:nvPicPr>
          <p:cNvPr id="65" name="" descr="">
            <a:hlinkClick r:id="rId3"/>
          </p:cNvPr>
          <p:cNvPicPr/>
          <p:nvPr/>
        </p:nvPicPr>
        <p:blipFill>
          <a:blip r:embed="rId4"/>
          <a:stretch/>
        </p:blipFill>
        <p:spPr>
          <a:xfrm>
            <a:off x="6934320" y="0"/>
            <a:ext cx="220968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7T16:30:54Z</dcterms:created>
  <dc:creator>USD376</dc:creator>
  <dc:description/>
  <dc:language>en-US</dc:language>
  <cp:lastModifiedBy>USD376</cp:lastModifiedBy>
  <dcterms:modified xsi:type="dcterms:W3CDTF">2011-02-23T16:02:56Z</dcterms:modified>
  <cp:revision>14</cp:revision>
  <dc:subject/>
  <dc:title>Boys and girls free throws </dc:title>
</cp:coreProperties>
</file>